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0" r="0" b="7953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692360" y="90792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Lesson 13 At 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95240" y="981000"/>
            <a:ext cx="1399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小练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4777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ere is Danny?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4720" y="119700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 is  ______the 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844640"/>
            <a:ext cx="54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here  is  Li  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638440"/>
            <a:ext cx="45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e is_____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3213000"/>
            <a:ext cx="40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Where is J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3860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She is_____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797440" y="1054080"/>
            <a:ext cx="568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68360" y="393372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What's 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1577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It's my school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" y="477720"/>
            <a:ext cx="525492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1080" y="3933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48360" y="3860640"/>
            <a:ext cx="2571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-468360" y="0"/>
            <a:ext cx="575784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16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4869000"/>
            <a:ext cx="41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What's 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581360"/>
            <a:ext cx="39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It's my classroo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38840" y="144468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classro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5080" y="476280"/>
            <a:ext cx="41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24000" y="404640"/>
            <a:ext cx="4782960" cy="32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05320" y="1116000"/>
            <a:ext cx="30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图书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65880" y="2332080"/>
            <a:ext cx="28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libr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4720" y="4581360"/>
            <a:ext cx="737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This is my librar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720" y="119160"/>
            <a:ext cx="4824720" cy="321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64000" y="83808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75240" y="2340000"/>
            <a:ext cx="32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操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720" y="3933720"/>
            <a:ext cx="87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This  is  our playgrou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4438800"/>
            <a:ext cx="78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的学校真美呀，可是当你找不到某地该怎么 说呢，现在来学习一下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1701720"/>
            <a:ext cx="3560760" cy="266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7417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00" y="3141720"/>
            <a:ext cx="409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ook,this is my 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89000"/>
            <a:ext cx="451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Your school is gr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4520" y="765000"/>
            <a:ext cx="2230200" cy="434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2735"/>
          <a:stretch/>
        </p:blipFill>
        <p:spPr>
          <a:xfrm>
            <a:off x="6138720" y="2205000"/>
            <a:ext cx="300528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693720"/>
            <a:ext cx="5400720" cy="1511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1054080"/>
            <a:ext cx="48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  can  show  you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5280" y="4221000"/>
            <a:ext cx="5977080" cy="2665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654440"/>
            <a:ext cx="5222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8720" y="4510080"/>
            <a:ext cx="501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Excuse me, Miss Zhang.Where's the comput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0" y="3592440"/>
            <a:ext cx="2286000" cy="300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4160" y="-25560"/>
            <a:ext cx="2085840" cy="406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3640" y="189000"/>
            <a:ext cx="4537080" cy="1081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Here it i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404640"/>
            <a:ext cx="3898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477720"/>
            <a:ext cx="4400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9080" y="4581360"/>
            <a:ext cx="345564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410364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981000"/>
            <a:ext cx="30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知识盘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0200" y="3065400"/>
            <a:ext cx="552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school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classroom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图书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playground: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操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09444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这几个单词一定要背下来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1:25:58Z</dcterms:created>
  <dc:creator/>
  <dc:description/>
  <cp:keywords/>
  <dc:language>en-US</dc:language>
  <cp:lastModifiedBy/>
  <dcterms:modified xsi:type="dcterms:W3CDTF">2018-08-17T09:16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